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CA5-E1F6-4528-A3D2-39394E12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F06-12E4-41FE-B432-2C1D07F6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7411B-6C12-4FC8-8510-22D7D662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B8646-0BD3-4BA6-9A4D-6C7841C0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9DC40-BD44-4C85-8D23-DB93C84A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B99D6-96B4-4CA6-8360-05AEED27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05AA5-0150-45C3-A2C7-288A2633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F43A4-95EB-44C6-B43E-B8189FBF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E74D3-2FC0-45D0-9B04-78E9C8E8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6339E-86EA-43D1-A620-3855044C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EA56F-BDBB-424D-A329-EF023E85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86D8F-79F6-4E7E-8A0B-1B3988C5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26E-3F50-49FA-BBC2-13D03DE1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0A340-A0FB-47AB-9F44-8731EA16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25AAD-97C8-4057-8F12-A02D9229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CA9C9-CD86-4970-ACCB-A3AE79E8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F4AD2-FE93-43FA-95DF-FB67C20B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D66B5-D1E7-4C67-85F0-F5A30BB2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04506-F984-45A0-8C9D-18AA605D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F4839-16D7-4560-AD18-74B7A676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EF981-4561-4239-97B7-ACC0936E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B113B-E695-4416-A252-C94C79FC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F68D0-1BF0-4D47-B847-346E7009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C9D-5368-410C-A3D3-D3E452D2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8AABF-446C-4F7B-8413-1095FB82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7EC0D-E39A-438E-9CCB-344A2962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A2ED4-4EC0-43A2-88E3-AB62D89A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388B0-8A2C-4855-A787-38133164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BD311-10C2-4E17-AA46-A25514E8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232DE-1B6D-48FA-A13A-D01C4EE4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E3898-8F6D-4C3F-A34B-6CD0B127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AE98E-D3AF-4275-BB7A-AEB21C59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FABFB-5B7C-4156-87F8-96C6EF15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509C1-72F8-465B-860F-6CBB2F3F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1603-1363-4A9C-8EC3-57D9C300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2E68D-94E3-439D-85B5-A69D49A1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9A2C9-2F31-41A2-B2E5-61083171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F326F-CE6B-4854-93E6-6080E957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C059F-4D7D-4B7F-AC7C-5F91BE4C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31FF5-0DE1-4158-A602-971177C4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344BC-C645-4BF2-8D6A-D038D526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5DD36-6B4F-4B1A-808E-B1DB00BF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AD5F7-1A3E-4B0B-AF0F-08FD8F88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63BC9-5D77-4E42-8675-2FD43CEF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B00A7-73FD-446E-B9BF-7D836701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1B67-7000-49D0-86E1-904C2123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C9D61-4891-422C-83AA-B65CE56B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33637-8F28-4DBF-B0FE-3B8B8268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C7CC8-D7E9-492C-A8CC-DDE2BEBA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37A1F-B09C-43A7-A64A-45C584D4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5D6A9-CA85-42A6-A503-16F2A302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5E73-DBBF-4031-BE5D-5C84A557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DAB3-F644-42C2-833D-D235533B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44A2-298E-497F-AC5C-C4DF718B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5A2A-9E57-4DE6-A99A-B32F4465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B458-C9CE-4B95-9AC4-3202372D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996-0A48-4E62-8CDA-75750862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6B4A-89EA-4B70-A2D4-A2394F86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D54B-B686-493D-A921-77E675E2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9128-09F6-4EF1-933A-864EC14F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D86A-25F1-4EA3-862F-BDF8255F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9A43-4E40-446E-AA45-5FB3F347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4D072-388A-4CA7-B9D3-28E71740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3CD04-E03C-4036-A2AE-A2279500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A5634-3319-4487-A35D-B68274BB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2403C-6A9A-4967-82D2-1156647E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75995-EFEB-42C4-B2B0-675E23E8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ED5-4B05-43D4-879B-3B8EDA4A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BC6B1-94A8-43F5-B235-99C27A6C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6A03C-B81D-488A-B075-06700AF4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83D7A-A2D3-44C1-A84C-A6D334CA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07BA6-C471-45CE-8775-86A8DE84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36F09-913C-4F46-B468-9BE58652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422C1-8EBD-417B-BAD2-7F4839F0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3C63A-2382-4AF2-A8B0-0A467D2F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BA6B7-2288-41D7-A00C-7E7030F6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83B39-052F-4E73-9F87-96E822D2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B7F29-94D4-488C-AD0A-C45E0F26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127-3304-4B80-8207-AB28AB5E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40C85-60CA-4D71-96B0-F3F9625D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DF041-6F11-41C0-8CB2-A26CD527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7781C-3B91-4560-BCA8-A3C41F6C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7BA18-9247-4301-9039-419F37B6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AAFFE-1D5F-4E73-8DCB-E0B87423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E8FB5-44DD-4870-A908-67F4FA3F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6CFD6-74B0-416F-B45E-7EE41FC9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B8279-8ABD-49E2-8C0D-696C9D66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190E3-705A-4313-8A75-F1A98F52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44179-B4CA-4D72-8756-80BD624C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948-A47B-4177-9029-C2EA5E16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2B34F-0EA0-4756-B434-7C1CA022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498BB-C232-43B1-BD29-8A19FD2B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9D4FF-BFD5-4B28-8C70-943A7477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41724-DAFF-4E32-9EB4-F373C358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E0EEC-5AD0-445E-843F-28F9E511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18177-0840-4368-835A-296EB59B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8B934-DFC1-4DCD-8D2A-947B3C4C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13CDE-A096-41F8-8CF6-B250E620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2F0DF-B637-48DB-BEFE-5C46B91E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3CA18-0B3B-4BA6-89C1-3E19B6D1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AB3-3A17-4BBF-A6A8-A336ABB7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3A260-F17F-46FD-83C3-F7203DF5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ABA61-8489-4D1C-965B-FF13D2CD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6ECA6-A8CF-4C0E-84F2-D22F8D24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73520-B7E5-4B14-B791-93C48BC6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3FE10-588E-49E8-9B9A-634C815C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67D8B-0614-4C5B-9C08-94E58BAE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000F3-A398-4D57-A8F7-EA1567A5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6DECA-A014-4008-AD78-94C44AE1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05FE5-3328-4943-8823-AFF6D5C6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1F0E5-11C3-4A77-BB3E-5CF0FCDD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70C-D835-4BCC-834E-1505BE5C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8457B-5BEA-4925-8D7A-2867798B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55006-D501-47C7-89B6-1E7B5335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3A360-D4AC-4144-811B-DA6A151E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AC639-F8AC-4339-87D0-15846BA5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E6A30-ABE0-48BB-BAB7-D29B61B4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CD112-EA5B-4364-9852-4892171B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8A08A-9D3A-4F5F-B9E1-EFDE22BA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74303-CC40-44F0-A103-A309EE6C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EBCB8-CAEB-4853-A28B-A97A9B7E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E14F1-65B5-4391-88DF-5CF3A7AF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0BB-7D17-4D3C-B774-5E2D46E5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A5921-38FB-4260-A92B-46929EB5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EE8F7-77B1-4EDE-9148-F6A7BA7E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3345D-00AD-478D-BAFA-CD05700B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864C6-04A4-4F96-B851-E23293F8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51568-3E16-48B2-A708-0B0EE6F8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EF4CA-2C17-4473-85D0-AE80DB16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667B3-0F58-46B1-A444-35AF974C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ABF42-61EE-4D92-9172-FAA9885D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BDBAD-FE5D-4BCE-B350-E53D5498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4CC37-A0AC-4AD1-A44B-8510B822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BD43-CC26-44C2-962F-952542CF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964A5-1768-4C05-ADEB-2974281A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D3441-0DDC-4EB4-8548-F359E05A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E5572-ED98-4D39-A3D2-11B57F50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2A4A4-B58B-4046-88BE-344E1F76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33E6F-9A77-4A19-9039-5C5091B4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7FD58-A802-4489-88D3-7B0AC246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0E0CA-DBC8-497E-8474-2507F26F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EEE60-F0CE-4649-A43E-B69AB597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FD6D6-7946-4121-BFDC-B149EC79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A8843-7EDE-440C-9D6E-CD97904F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E74C-9C74-4BE2-BFB1-81FC0D4E970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736F-E1DB-4587-BF74-B44F79EB703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0194-D81A-494A-9D49-D8ED4661637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F6FE-4C14-4A88-887F-AC44F1E7B82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A0B9-1249-4B7A-BAC9-7E4D7867CFB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D898-F96C-41FE-A9F5-00C745108E3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037B-D55B-444F-BE8B-103EB733E3A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7FB2-9AA5-49BF-B030-DED5D116EA1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5686-FD8A-488B-B522-EDB9C0D550B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9F77-EC73-4A9F-B936-3826EC59DD8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9FAD-1711-41F8-ABF5-6F1F8149E32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2B9D-B81F-451A-89DB-0B94C16E275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00120" y="1642680"/>
            <a:ext cx="6500880" cy="170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Tahoma"/>
              </a:rPr>
              <a:t>Подчинительныесоюзы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85920" y="6667560"/>
            <a:ext cx="621504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85560" y="642960"/>
            <a:ext cx="65530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28400" y="1356840"/>
            <a:ext cx="8391240" cy="5094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Вставьте подходящие по смыслу союз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пределите их вид по строению и разряд по значе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Редеет мгла ненастной ночи, … близкий день уж настает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Не может волк … охнуть, … вздохнуть. (И.Крыл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ал золотник … дорог. (Пословиц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ы не надеялись никогда более встретиться, … встретились. (М.Лермонт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Твой конь не боится опасных трудов, он, чуя господскую волю, … смирно стоит под стрелами врагов, … мчится по бранному полю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Овал 3"/>
          <p:cNvSpPr/>
          <p:nvPr/>
        </p:nvSpPr>
        <p:spPr>
          <a:xfrm>
            <a:off x="5357880" y="200016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4"/>
          <p:cNvSpPr/>
          <p:nvPr/>
        </p:nvSpPr>
        <p:spPr>
          <a:xfrm>
            <a:off x="314316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5"/>
          <p:cNvSpPr/>
          <p:nvPr/>
        </p:nvSpPr>
        <p:spPr>
          <a:xfrm>
            <a:off x="471492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6"/>
          <p:cNvSpPr/>
          <p:nvPr/>
        </p:nvSpPr>
        <p:spPr>
          <a:xfrm>
            <a:off x="3000240" y="357192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7"/>
          <p:cNvSpPr/>
          <p:nvPr/>
        </p:nvSpPr>
        <p:spPr>
          <a:xfrm>
            <a:off x="7858080" y="4000680"/>
            <a:ext cx="64296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8"/>
          <p:cNvSpPr/>
          <p:nvPr/>
        </p:nvSpPr>
        <p:spPr>
          <a:xfrm>
            <a:off x="3714840" y="528624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9"/>
          <p:cNvSpPr/>
          <p:nvPr/>
        </p:nvSpPr>
        <p:spPr>
          <a:xfrm>
            <a:off x="2071800" y="5643720"/>
            <a:ext cx="55728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14280" y="642600"/>
            <a:ext cx="6553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74221"/>
                </a:solidFill>
                <a:latin typeface="Verdana"/>
              </a:rPr>
              <a:t>Понаблюдаем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57120" y="1500120"/>
            <a:ext cx="8462880" cy="495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очему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до вечера добраться до нужного пункт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с какой целью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когда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бы отправились в поход рано утром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ри каком условии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Овал 3"/>
          <p:cNvSpPr/>
          <p:nvPr/>
        </p:nvSpPr>
        <p:spPr>
          <a:xfrm>
            <a:off x="6715080" y="128592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4"/>
          <p:cNvSpPr/>
          <p:nvPr/>
        </p:nvSpPr>
        <p:spPr>
          <a:xfrm>
            <a:off x="6715080" y="2214720"/>
            <a:ext cx="185760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5"/>
          <p:cNvSpPr/>
          <p:nvPr/>
        </p:nvSpPr>
        <p:spPr>
          <a:xfrm>
            <a:off x="6643800" y="3357720"/>
            <a:ext cx="185724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к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6"/>
          <p:cNvSpPr/>
          <p:nvPr/>
        </p:nvSpPr>
        <p:spPr>
          <a:xfrm>
            <a:off x="7072200" y="421488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если 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6929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Составим таблиц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3" name="Прямоугольник 4"/>
          <p:cNvSpPr/>
          <p:nvPr/>
        </p:nvSpPr>
        <p:spPr>
          <a:xfrm>
            <a:off x="2428920" y="1428840"/>
            <a:ext cx="3643200" cy="92844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7d6"/>
                </a:solidFill>
                <a:latin typeface="Verdana"/>
              </a:rPr>
              <a:t>Подчинительные сою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5"/>
          <p:cNvSpPr/>
          <p:nvPr/>
        </p:nvSpPr>
        <p:spPr>
          <a:xfrm>
            <a:off x="357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Причи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От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Ввиду 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6"/>
          <p:cNvSpPr/>
          <p:nvPr/>
        </p:nvSpPr>
        <p:spPr>
          <a:xfrm>
            <a:off x="514368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Изъяс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7"/>
          <p:cNvSpPr/>
          <p:nvPr/>
        </p:nvSpPr>
        <p:spPr>
          <a:xfrm>
            <a:off x="128592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Срав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ло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о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8"/>
          <p:cNvSpPr/>
          <p:nvPr/>
        </p:nvSpPr>
        <p:spPr>
          <a:xfrm>
            <a:off x="2643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Це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Для того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 тем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9"/>
          <p:cNvSpPr/>
          <p:nvPr/>
        </p:nvSpPr>
        <p:spPr>
          <a:xfrm>
            <a:off x="485784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д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10"/>
          <p:cNvSpPr/>
          <p:nvPr/>
        </p:nvSpPr>
        <p:spPr>
          <a:xfrm>
            <a:off x="700092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Усл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ско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Прямая со стрелкой 12"/>
          <p:cNvCxnSpPr>
            <a:stCxn id="553" idx="2"/>
          </p:cNvCxnSpPr>
          <p:nvPr/>
        </p:nvCxnSpPr>
        <p:spPr>
          <a:xfrm flipH="1">
            <a:off x="1285200" y="2356920"/>
            <a:ext cx="2964600" cy="35820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1" name="Прямая со стрелкой 14"/>
          <p:cNvCxnSpPr>
            <a:stCxn id="553" idx="2"/>
            <a:endCxn id="557" idx="0"/>
          </p:cNvCxnSpPr>
          <p:nvPr/>
        </p:nvCxnSpPr>
        <p:spPr>
          <a:xfrm flipH="1">
            <a:off x="3571200" y="2356920"/>
            <a:ext cx="6786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2" name="Прямая со стрелкой 16"/>
          <p:cNvCxnSpPr>
            <a:stCxn id="553" idx="2"/>
            <a:endCxn id="558" idx="0"/>
          </p:cNvCxnSpPr>
          <p:nvPr/>
        </p:nvCxnSpPr>
        <p:spPr>
          <a:xfrm>
            <a:off x="4249800" y="2356920"/>
            <a:ext cx="15372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3" name="Прямая со стрелкой 18"/>
          <p:cNvCxnSpPr>
            <a:stCxn id="553" idx="2"/>
            <a:endCxn id="559" idx="0"/>
          </p:cNvCxnSpPr>
          <p:nvPr/>
        </p:nvCxnSpPr>
        <p:spPr>
          <a:xfrm>
            <a:off x="4249800" y="2356920"/>
            <a:ext cx="368064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14280" y="428400"/>
            <a:ext cx="65534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57120" y="1428840"/>
            <a:ext cx="8462880" cy="502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пишите предложение, расставляя знаки препинания, и определите вид союз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Мать если бы она осталась с сыном чувствовала бы себя спокой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Какой-то с молоду Скворец так петь щегленком научился как будто бы щегленком сам родил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Если мы будем читать слишком быстро или слишком медленно мы ничего не пойм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6553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Словарь трудных сл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вет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о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ем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а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85840" y="1785960"/>
            <a:ext cx="853416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В каком предложении нет предлог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Плохо, когда не с кем поговор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ом напротив построили лет десять наза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н продолжал путь, несмотря на устал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становка находится около школ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Укажите пример раздельного написания предло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Звонил (в) продолжение получа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вигаться (на) встречу ветр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Узнали (на) счет контроль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Выступить (в) место ме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57120" y="1857240"/>
            <a:ext cx="8462880" cy="4594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Из данного предложения выпишите производный предло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4400" spc="-1" strike="noStrike">
                <a:solidFill>
                  <a:srgbClr val="7030a0"/>
                </a:solidFill>
                <a:latin typeface="Verdana"/>
              </a:rPr>
              <a:t>Вдоль по улице метелица метет, за метелицей мой миленький идет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9:12:41Z</dcterms:created>
  <dc:creator>MaTeMaTiKa</dc:creator>
  <dc:description/>
  <dc:language>en-US</dc:language>
  <cp:lastModifiedBy>Windows 7</cp:lastModifiedBy>
  <dcterms:modified xsi:type="dcterms:W3CDTF">2013-05-07T01:46:07Z</dcterms:modified>
  <cp:revision>10</cp:revision>
  <dc:subject/>
  <dc:title>Name of presentation</dc:title>
</cp:coreProperties>
</file>